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9B8-51A7-4D66-8842-3825F5DE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84C-9DD3-4BB7-9603-D6878720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69F-3B72-4118-A1AD-8D532CB9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CAC-288A-41C0-8F72-C8C9F148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52D-80F2-43B7-98EE-7456E7CC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9AA-7FD9-4CCE-AD12-81D823EE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F5A-6EE7-4293-BE4C-27F57947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7E2-4C5F-46B7-AD77-F0D0DACF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8AD-0EE0-4B2E-A4EC-204BE388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6AD-8FB7-4EC6-8A78-1B833537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A27-6342-47FA-B0F7-22414D53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4AC-9AB6-42C9-8314-8E12D973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1F58-C77D-44E2-9246-BD4C227D6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91040"/>
            <a:ext cx="80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Мы такие разные, </a:t>
            </a:r>
            <a:br>
              <a:rPr sz="6000"/>
            </a:b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но мы всё-таки 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5640" y="189000"/>
            <a:ext cx="5056200" cy="4376160"/>
            <a:chOff x="2195640" y="189000"/>
            <a:chExt cx="5056200" cy="43761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3227400" y="189000"/>
              <a:ext cx="314280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95640" y="3924360"/>
              <a:ext cx="50562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38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32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ть толерант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значает уважать других, невзирая на различия.                            Это означает быть внимательным к другим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обращать внимание на то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нас сбл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976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973080" y="-5317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3456000"/>
            <a:ext cx="288144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728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ерпимость к чужому мнению, вероисповеданию, поведению, культуре, политическим взглядам, национальности, то есть это проявление терпимости, понимания и уважения к личности другого человека независим от каких-либо отлич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селение планеты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46432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яет почти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7 миллиардов человек различных националь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9640" y="1197000"/>
            <a:ext cx="30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аб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нгаль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лору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г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е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гор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птя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гу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мы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ты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дава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349360"/>
            <a:ext cx="302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мы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б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мур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нцуз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ва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ыган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рке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вед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скимо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98100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41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573400">
            <a:off x="4787640" y="126792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7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645000"/>
            <a:ext cx="1512720" cy="247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11600">
            <a:off x="2700000" y="321264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51000">
            <a:off x="2771280" y="112500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822800">
            <a:off x="4836240" y="323496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1512720" cy="139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5400" y="90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46320" y="148104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573400">
            <a:off x="2828520" y="103032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80560" y="14810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204156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511600">
            <a:off x="2013120" y="18572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251000">
            <a:off x="2041560" y="969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22800">
            <a:off x="2820960" y="19098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540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65800">
            <a:off x="5911920" y="9140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965800">
            <a:off x="6427440" y="15840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139200">
            <a:off x="6279120" y="109908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965800">
            <a:off x="5179680" y="137736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65800">
            <a:off x="5726160" y="2031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076800">
            <a:off x="5339520" y="17820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16200">
            <a:off x="5513400" y="9108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8388600">
            <a:off x="6135840" y="19699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5800">
            <a:off x="582948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415000">
            <a:off x="3900240" y="36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4215000">
            <a:off x="4652640" y="6937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88400">
            <a:off x="4311720" y="3488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215000">
            <a:off x="3461760" y="112068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15000">
            <a:off x="4282560" y="143460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326000">
            <a:off x="3823920" y="14032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065400">
            <a:off x="3550320" y="559440"/>
            <a:ext cx="590400" cy="10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637800">
            <a:off x="4585680" y="11732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15000">
            <a:off x="4070160" y="107280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2708280"/>
            <a:ext cx="1366920" cy="25210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67280" y="2205000"/>
            <a:ext cx="288720" cy="3311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24360" y="2637000"/>
            <a:ext cx="1800000" cy="2087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3716280"/>
            <a:ext cx="2160360" cy="2737080"/>
          </a:xfrm>
          <a:prstGeom prst="flowChartTerminator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37:26Z</dcterms:created>
  <dc:creator>Котёнок</dc:creator>
  <dc:description/>
  <dc:language>en-US</dc:language>
  <cp:lastModifiedBy>Elena</cp:lastModifiedBy>
  <dcterms:modified xsi:type="dcterms:W3CDTF">2009-12-20T17:32:09Z</dcterms:modified>
  <cp:revision>9</cp:revision>
  <dc:subject/>
  <dc:title>Мы такие разные,  но мы всё-таки ВМЕСТЕ!</dc:title>
</cp:coreProperties>
</file>